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4.jpeg" ContentType="image/jpeg"/>
  <Override PartName="/ppt/media/image26.jpeg" ContentType="image/jpeg"/>
  <Override PartName="/ppt/media/image5.jpeg" ContentType="image/jpeg"/>
  <Override PartName="/ppt/media/image27.jpeg" ContentType="image/jpeg"/>
  <Override PartName="/ppt/media/image50.jpeg" ContentType="image/jpeg"/>
  <Override PartName="/ppt/media/image33.jpeg" ContentType="image/jpeg"/>
  <Override PartName="/ppt/media/image6.jpeg" ContentType="image/jpeg"/>
  <Override PartName="/ppt/media/image34.jpeg" ContentType="image/jpeg"/>
  <Override PartName="/ppt/media/image43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31.jpeg" ContentType="image/jpeg"/>
  <Override PartName="/ppt/media/image48.jpeg" ContentType="image/jpeg"/>
  <Override PartName="/ppt/media/image53.jpeg" ContentType="image/jpeg"/>
  <Override PartName="/ppt/media/image32.jpeg" ContentType="image/jpeg"/>
  <Override PartName="/ppt/media/image49.jpeg" ContentType="image/jpeg"/>
  <Override PartName="/ppt/media/image54.jpeg" ContentType="image/jpeg"/>
  <Override PartName="/ppt/media/image30.jpeg" ContentType="image/jpeg"/>
  <Override PartName="/ppt/media/image9.jpeg" ContentType="image/jpeg"/>
  <Override PartName="/ppt/media/image11.jpeg" ContentType="image/jpeg"/>
  <Override PartName="/ppt/media/image40.jpeg" ContentType="image/jpeg"/>
  <Override PartName="/ppt/media/image13.jpeg" ContentType="image/jpeg"/>
  <Override PartName="/ppt/media/image28.jpeg" ContentType="image/jpeg"/>
  <Override PartName="/ppt/media/image51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52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72404-F0C8-4DC6-AC2D-26900C95A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9FDEF-931F-40D0-BCFC-C8782EA22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B90E8-036C-4B95-942E-407801AF7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54A3C-485F-4AFF-B76F-BE2902143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7156A-DF9C-4592-99E3-FFBECA23B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6D8BD-AC47-4F5A-8D79-7A3E5DA93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A97BC-667B-4E66-8D2A-B0700D347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99645-43D7-41C4-AC1C-D72A52CC3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7B078-FE52-467D-B5CA-508877C7B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6E948-A043-45E2-AAFF-A5D25D518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EAB3E-2B9B-4D7C-A6EC-4ED42398A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4CFCA-D2A7-429C-902F-B6E42D558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FF348-55F6-48CF-947E-0739805236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beatricepublicschools.org/vslideshow/viewer.v?zoom=1&amp;publication_id=&amp;slideshow_id=4378bb1511262&amp;slide_num=9" TargetMode="External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209680" y="152280"/>
            <a:ext cx="4400640" cy="58676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3809880" y="6019920"/>
            <a:ext cx="16480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clown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397240" y="533520"/>
            <a:ext cx="4120920" cy="5486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 txBox="1"/>
          <p:nvPr/>
        </p:nvSpPr>
        <p:spPr>
          <a:xfrm>
            <a:off x="3733920" y="6019920"/>
            <a:ext cx="1447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Sant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511360" y="685800"/>
            <a:ext cx="3949920" cy="52578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 txBox="1"/>
          <p:nvPr/>
        </p:nvSpPr>
        <p:spPr>
          <a:xfrm>
            <a:off x="3505320" y="6019920"/>
            <a:ext cx="23810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snowma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511360" y="685800"/>
            <a:ext cx="3835440" cy="51055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 txBox="1"/>
          <p:nvPr/>
        </p:nvSpPr>
        <p:spPr>
          <a:xfrm>
            <a:off x="3733920" y="5943600"/>
            <a:ext cx="16002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sheriff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455920" y="457200"/>
            <a:ext cx="4064040" cy="54100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 txBox="1"/>
          <p:nvPr/>
        </p:nvSpPr>
        <p:spPr>
          <a:xfrm>
            <a:off x="3200400" y="5943600"/>
            <a:ext cx="29242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camouflag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397240" y="533520"/>
            <a:ext cx="4064040" cy="54100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 txBox="1"/>
          <p:nvPr/>
        </p:nvSpPr>
        <p:spPr>
          <a:xfrm>
            <a:off x="3124080" y="6019920"/>
            <a:ext cx="26956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Uncle Sa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340000" y="457200"/>
            <a:ext cx="4064040" cy="54100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 txBox="1"/>
          <p:nvPr/>
        </p:nvSpPr>
        <p:spPr>
          <a:xfrm>
            <a:off x="3352680" y="6019920"/>
            <a:ext cx="21337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peacock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2454120" y="609480"/>
            <a:ext cx="3892680" cy="518184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 txBox="1"/>
          <p:nvPr/>
        </p:nvSpPr>
        <p:spPr>
          <a:xfrm>
            <a:off x="2819520" y="5791320"/>
            <a:ext cx="35431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spotted pupp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 txBox="1"/>
          <p:nvPr/>
        </p:nvSpPr>
        <p:spPr>
          <a:xfrm>
            <a:off x="2895480" y="5867280"/>
            <a:ext cx="354348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Mickey Mous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 txBox="1"/>
          <p:nvPr/>
        </p:nvSpPr>
        <p:spPr>
          <a:xfrm>
            <a:off x="1523880" y="5791320"/>
            <a:ext cx="57531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knight in shining armo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600200" y="609480"/>
            <a:ext cx="6095880" cy="45720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733920" y="5410080"/>
            <a:ext cx="172404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pilgri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514600" y="380880"/>
            <a:ext cx="4183200" cy="55627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3200400" y="6019920"/>
            <a:ext cx="29908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cheerleade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1600200" y="609480"/>
            <a:ext cx="6095880" cy="45720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 txBox="1"/>
          <p:nvPr/>
        </p:nvSpPr>
        <p:spPr>
          <a:xfrm>
            <a:off x="2590920" y="5562720"/>
            <a:ext cx="43052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basketball playe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523880" y="533520"/>
            <a:ext cx="6096240" cy="45720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 txBox="1"/>
          <p:nvPr/>
        </p:nvSpPr>
        <p:spPr>
          <a:xfrm>
            <a:off x="3581280" y="5638680"/>
            <a:ext cx="19242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teache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1523880" y="609480"/>
            <a:ext cx="6096240" cy="4572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 txBox="1"/>
          <p:nvPr/>
        </p:nvSpPr>
        <p:spPr>
          <a:xfrm>
            <a:off x="3733920" y="5638680"/>
            <a:ext cx="169524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soldie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Slid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71600" y="838080"/>
            <a:ext cx="6248520" cy="469764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 txBox="1"/>
          <p:nvPr/>
        </p:nvSpPr>
        <p:spPr>
          <a:xfrm>
            <a:off x="3581280" y="5791320"/>
            <a:ext cx="16192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hunte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295280" y="685800"/>
            <a:ext cx="6096240" cy="45720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 txBox="1"/>
          <p:nvPr/>
        </p:nvSpPr>
        <p:spPr>
          <a:xfrm>
            <a:off x="3429000" y="5638680"/>
            <a:ext cx="2124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princes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Slide image"/>
          <p:cNvPicPr/>
          <p:nvPr/>
        </p:nvPicPr>
        <p:blipFill>
          <a:blip r:embed="rId1"/>
          <a:stretch/>
        </p:blipFill>
        <p:spPr>
          <a:xfrm>
            <a:off x="1676520" y="990720"/>
            <a:ext cx="5486400" cy="412416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 txBox="1"/>
          <p:nvPr/>
        </p:nvSpPr>
        <p:spPr>
          <a:xfrm>
            <a:off x="3962520" y="5715000"/>
            <a:ext cx="1390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nurs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Slide image"/>
          <p:cNvPicPr/>
          <p:nvPr/>
        </p:nvPicPr>
        <p:blipFill>
          <a:blip r:embed="rId1"/>
          <a:stretch/>
        </p:blipFill>
        <p:spPr>
          <a:xfrm>
            <a:off x="1447920" y="609480"/>
            <a:ext cx="6019560" cy="452592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 txBox="1"/>
          <p:nvPr/>
        </p:nvSpPr>
        <p:spPr>
          <a:xfrm>
            <a:off x="3657600" y="5562720"/>
            <a:ext cx="14954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clow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Slide image"/>
          <p:cNvPicPr/>
          <p:nvPr/>
        </p:nvPicPr>
        <p:blipFill>
          <a:blip r:embed="rId1"/>
          <a:stretch/>
        </p:blipFill>
        <p:spPr>
          <a:xfrm>
            <a:off x="1523880" y="685800"/>
            <a:ext cx="6019920" cy="452592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 txBox="1"/>
          <p:nvPr/>
        </p:nvSpPr>
        <p:spPr>
          <a:xfrm>
            <a:off x="2743200" y="5638680"/>
            <a:ext cx="36003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football playe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Slide image"/>
          <p:cNvPicPr/>
          <p:nvPr/>
        </p:nvPicPr>
        <p:blipFill>
          <a:blip r:embed="rId1"/>
          <a:stretch/>
        </p:blipFill>
        <p:spPr>
          <a:xfrm>
            <a:off x="1523880" y="609480"/>
            <a:ext cx="6096240" cy="4583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 txBox="1"/>
          <p:nvPr/>
        </p:nvSpPr>
        <p:spPr>
          <a:xfrm>
            <a:off x="2895480" y="5486400"/>
            <a:ext cx="33912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soccer playe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Turkey Ballerina on Steroids"/>
          <p:cNvPicPr/>
          <p:nvPr/>
        </p:nvPicPr>
        <p:blipFill>
          <a:blip r:embed="rId1"/>
          <a:stretch/>
        </p:blipFill>
        <p:spPr>
          <a:xfrm>
            <a:off x="2514600" y="685800"/>
            <a:ext cx="3772080" cy="50292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 txBox="1"/>
          <p:nvPr/>
        </p:nvSpPr>
        <p:spPr>
          <a:xfrm>
            <a:off x="3505320" y="5867280"/>
            <a:ext cx="2124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ballerin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666880" y="609480"/>
            <a:ext cx="3953160" cy="52578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 txBox="1"/>
          <p:nvPr/>
        </p:nvSpPr>
        <p:spPr>
          <a:xfrm>
            <a:off x="2666880" y="5943600"/>
            <a:ext cx="3924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President Bush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981080" y="380880"/>
            <a:ext cx="4753080" cy="518184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 txBox="1"/>
          <p:nvPr/>
        </p:nvSpPr>
        <p:spPr>
          <a:xfrm>
            <a:off x="2819520" y="5791320"/>
            <a:ext cx="33145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skateboarde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dsc00369.jpg"/>
          <p:cNvPicPr/>
          <p:nvPr/>
        </p:nvPicPr>
        <p:blipFill>
          <a:blip r:embed="rId1"/>
          <a:stretch/>
        </p:blipFill>
        <p:spPr>
          <a:xfrm>
            <a:off x="2819520" y="1143000"/>
            <a:ext cx="3504960" cy="45720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 txBox="1"/>
          <p:nvPr/>
        </p:nvSpPr>
        <p:spPr>
          <a:xfrm>
            <a:off x="3962520" y="5943600"/>
            <a:ext cx="809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ca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dsc00370.jpg"/>
          <p:cNvPicPr/>
          <p:nvPr/>
        </p:nvPicPr>
        <p:blipFill>
          <a:blip r:embed="rId1"/>
          <a:stretch/>
        </p:blipFill>
        <p:spPr>
          <a:xfrm>
            <a:off x="2943360" y="1143000"/>
            <a:ext cx="3257280" cy="45720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 txBox="1"/>
          <p:nvPr/>
        </p:nvSpPr>
        <p:spPr>
          <a:xfrm>
            <a:off x="3733920" y="5943600"/>
            <a:ext cx="19238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cowbo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dsc00374.jpg"/>
          <p:cNvPicPr/>
          <p:nvPr/>
        </p:nvPicPr>
        <p:blipFill>
          <a:blip r:embed="rId1"/>
          <a:stretch/>
        </p:blipFill>
        <p:spPr>
          <a:xfrm>
            <a:off x="2971800" y="685800"/>
            <a:ext cx="3276720" cy="45720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 txBox="1"/>
          <p:nvPr/>
        </p:nvSpPr>
        <p:spPr>
          <a:xfrm>
            <a:off x="2895480" y="5638680"/>
            <a:ext cx="36385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christmas tre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dsc00379.jpg"/>
          <p:cNvPicPr/>
          <p:nvPr/>
        </p:nvPicPr>
        <p:blipFill>
          <a:blip r:embed="rId1"/>
          <a:stretch/>
        </p:blipFill>
        <p:spPr>
          <a:xfrm>
            <a:off x="1828800" y="380880"/>
            <a:ext cx="5486400" cy="54435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 txBox="1"/>
          <p:nvPr/>
        </p:nvSpPr>
        <p:spPr>
          <a:xfrm>
            <a:off x="4267080" y="6019920"/>
            <a:ext cx="9144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lio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family homework project angel turkey"/>
          <p:cNvPicPr/>
          <p:nvPr/>
        </p:nvPicPr>
        <p:blipFill>
          <a:blip r:embed="rId1"/>
          <a:stretch/>
        </p:blipFill>
        <p:spPr>
          <a:xfrm>
            <a:off x="2741760" y="685800"/>
            <a:ext cx="3355920" cy="50292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3733920" y="5867280"/>
            <a:ext cx="13716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ange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family homework project hula turkey"/>
          <p:cNvPicPr/>
          <p:nvPr/>
        </p:nvPicPr>
        <p:blipFill>
          <a:blip r:embed="rId1"/>
          <a:stretch/>
        </p:blipFill>
        <p:spPr>
          <a:xfrm>
            <a:off x="2971800" y="609480"/>
            <a:ext cx="3205080" cy="48006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 txBox="1"/>
          <p:nvPr/>
        </p:nvSpPr>
        <p:spPr>
          <a:xfrm>
            <a:off x="3200400" y="5715000"/>
            <a:ext cx="28098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hula turke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514600" y="685800"/>
            <a:ext cx="3714840" cy="495288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3657600" y="5867280"/>
            <a:ext cx="149544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sheep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514600" y="685800"/>
            <a:ext cx="3714840" cy="495288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 txBox="1"/>
          <p:nvPr/>
        </p:nvSpPr>
        <p:spPr>
          <a:xfrm>
            <a:off x="3429000" y="5867280"/>
            <a:ext cx="2124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butterfl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2457360" y="609480"/>
            <a:ext cx="3886200" cy="518184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 txBox="1"/>
          <p:nvPr/>
        </p:nvSpPr>
        <p:spPr>
          <a:xfrm>
            <a:off x="2362320" y="6019920"/>
            <a:ext cx="41241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motorcycle ride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438280" y="457200"/>
            <a:ext cx="4121280" cy="5486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 txBox="1"/>
          <p:nvPr/>
        </p:nvSpPr>
        <p:spPr>
          <a:xfrm>
            <a:off x="3276720" y="5943600"/>
            <a:ext cx="26384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time clock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2514600" y="380880"/>
            <a:ext cx="3886200" cy="5181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 txBox="1"/>
          <p:nvPr/>
        </p:nvSpPr>
        <p:spPr>
          <a:xfrm>
            <a:off x="3048120" y="5791320"/>
            <a:ext cx="29718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Sponge Bob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2457360" y="609480"/>
            <a:ext cx="3829320" cy="51055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 txBox="1"/>
          <p:nvPr/>
        </p:nvSpPr>
        <p:spPr>
          <a:xfrm>
            <a:off x="3124080" y="5943600"/>
            <a:ext cx="2610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spiderma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457360" y="609480"/>
            <a:ext cx="3943440" cy="52578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 txBox="1"/>
          <p:nvPr/>
        </p:nvSpPr>
        <p:spPr>
          <a:xfrm>
            <a:off x="3733920" y="5943600"/>
            <a:ext cx="14954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bunn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2343240" y="457200"/>
            <a:ext cx="4172040" cy="556272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 txBox="1"/>
          <p:nvPr/>
        </p:nvSpPr>
        <p:spPr>
          <a:xfrm>
            <a:off x="3962520" y="6019920"/>
            <a:ext cx="10382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cow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457360" y="609480"/>
            <a:ext cx="3886200" cy="518184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 txBox="1"/>
          <p:nvPr/>
        </p:nvSpPr>
        <p:spPr>
          <a:xfrm>
            <a:off x="3809880" y="5943600"/>
            <a:ext cx="163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touris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400480" y="533520"/>
            <a:ext cx="3886200" cy="518148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 txBox="1"/>
          <p:nvPr/>
        </p:nvSpPr>
        <p:spPr>
          <a:xfrm>
            <a:off x="3886200" y="5867280"/>
            <a:ext cx="126684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brid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400480" y="533520"/>
            <a:ext cx="4057560" cy="541008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 txBox="1"/>
          <p:nvPr/>
        </p:nvSpPr>
        <p:spPr>
          <a:xfrm>
            <a:off x="3352680" y="6019920"/>
            <a:ext cx="24577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superma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2400480" y="533520"/>
            <a:ext cx="3828960" cy="510516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 txBox="1"/>
          <p:nvPr/>
        </p:nvSpPr>
        <p:spPr>
          <a:xfrm>
            <a:off x="3276720" y="5791320"/>
            <a:ext cx="2133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pumpki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457360" y="609480"/>
            <a:ext cx="3943440" cy="525780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 txBox="1"/>
          <p:nvPr/>
        </p:nvSpPr>
        <p:spPr>
          <a:xfrm>
            <a:off x="3733920" y="5943600"/>
            <a:ext cx="1218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alie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2400480" y="53352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 txBox="1"/>
          <p:nvPr/>
        </p:nvSpPr>
        <p:spPr>
          <a:xfrm>
            <a:off x="2743200" y="6019920"/>
            <a:ext cx="343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hairy monste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514600" y="304920"/>
            <a:ext cx="4064040" cy="54100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 txBox="1"/>
          <p:nvPr/>
        </p:nvSpPr>
        <p:spPr>
          <a:xfrm>
            <a:off x="3352680" y="5867280"/>
            <a:ext cx="24861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firefighte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2400480" y="533520"/>
            <a:ext cx="4000320" cy="53337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 txBox="1"/>
          <p:nvPr/>
        </p:nvSpPr>
        <p:spPr>
          <a:xfrm>
            <a:off x="3962520" y="6019920"/>
            <a:ext cx="1466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surfe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2400480" y="533520"/>
            <a:ext cx="4057560" cy="541008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 txBox="1"/>
          <p:nvPr/>
        </p:nvSpPr>
        <p:spPr>
          <a:xfrm>
            <a:off x="3809880" y="5943600"/>
            <a:ext cx="13431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Zorro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2400480" y="533520"/>
            <a:ext cx="3943080" cy="52578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 txBox="1"/>
          <p:nvPr/>
        </p:nvSpPr>
        <p:spPr>
          <a:xfrm>
            <a:off x="3505320" y="5867280"/>
            <a:ext cx="192384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Batma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2400480" y="533520"/>
            <a:ext cx="3886200" cy="51814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 txBox="1"/>
          <p:nvPr/>
        </p:nvSpPr>
        <p:spPr>
          <a:xfrm>
            <a:off x="2743200" y="5867280"/>
            <a:ext cx="36669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race car drive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2400480" y="533520"/>
            <a:ext cx="4000320" cy="5333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 txBox="1"/>
          <p:nvPr/>
        </p:nvSpPr>
        <p:spPr>
          <a:xfrm>
            <a:off x="3200400" y="6019920"/>
            <a:ext cx="23335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black ca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514600" y="457200"/>
            <a:ext cx="4121280" cy="54864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 txBox="1"/>
          <p:nvPr/>
        </p:nvSpPr>
        <p:spPr>
          <a:xfrm>
            <a:off x="3962520" y="6019920"/>
            <a:ext cx="11905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bab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397240" y="533520"/>
            <a:ext cx="4064040" cy="54100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 txBox="1"/>
          <p:nvPr/>
        </p:nvSpPr>
        <p:spPr>
          <a:xfrm>
            <a:off x="3733920" y="6019920"/>
            <a:ext cx="13906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witch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397240" y="533520"/>
            <a:ext cx="4006800" cy="53337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 txBox="1"/>
          <p:nvPr/>
        </p:nvSpPr>
        <p:spPr>
          <a:xfrm>
            <a:off x="3124080" y="6019920"/>
            <a:ext cx="24861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Girl Scou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340000" y="457200"/>
            <a:ext cx="4064040" cy="54100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 txBox="1"/>
          <p:nvPr/>
        </p:nvSpPr>
        <p:spPr>
          <a:xfrm>
            <a:off x="2819520" y="5943600"/>
            <a:ext cx="33242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Super Turke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4T22:46:37Z</dcterms:created>
  <dc:creator>Technology</dc:creator>
  <dc:description/>
  <dc:language>en-US</dc:language>
  <cp:lastModifiedBy>LOCKHART ISD</cp:lastModifiedBy>
  <dcterms:modified xsi:type="dcterms:W3CDTF">2008-11-03T14:35:42Z</dcterms:modified>
  <cp:revision>2</cp:revision>
  <dc:subject/>
  <dc:title>Slide 1</dc:title>
</cp:coreProperties>
</file>